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863-B0F1-4202-BD70-90E16CC4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D67-F5C4-4148-A0AA-2A2FDFDA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06F-AC7E-479A-8B33-A1D26D90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9DA-E9C3-43F5-8EA4-62057257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2A4E-E542-4C66-816F-43191341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6498-A0FC-4802-AC6A-8ABDF2CB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9EF4-6424-4D7F-AA87-3064B361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C4CA-F8A9-4637-98FF-D0E0F4D4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3A1B-0EC5-427A-8081-5A1248B2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487B-ACA6-4E9F-8B37-4AB45358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EFA3-4B1C-45D6-8645-D141DC38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123-DACB-4A84-A0F7-DC37118B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9A96-1AF3-42AC-9209-F997968D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3229-9B79-44CC-B70C-9BC87E31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5FFF-39B2-4EE3-B53D-BF43B52E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C0D3-6377-482E-9FDC-E0E4B66F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F2BA-69EA-48A9-A1EA-74023AEB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7C5-F468-446C-84E4-070830F8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CEE-575A-432F-B82A-BE289220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736-D805-459B-8C03-7643ECFC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E3F-D0FC-4A68-8403-8C0E3288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3A2-E6EA-4F23-ACCE-E0D1D6C8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DB8-8BA6-4F9B-ACDA-659606BB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E7B-D799-4A3E-B0DD-7989C6D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EEE1-BF19-4B1E-B64B-C2D1624E99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CFBA-68F7-4EA1-86A1-ACE8032A63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cc66"/>
                </a:solidFill>
                <a:latin typeface="Gill Sans MT"/>
              </a:rPr>
              <a:t>Aztec Society:</a:t>
            </a:r>
            <a:r>
              <a:rPr b="1" lang="en-US" sz="4800" spc="-1" strike="noStrike">
                <a:solidFill>
                  <a:srgbClr val="cccc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The People of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1565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The physical geography of Mexico is diverse (jungles, sand dunes, beaches, valleys, mountain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The Aztecs believed the world existed in two landscapes: the </a:t>
            </a:r>
            <a:r>
              <a:rPr b="1" lang="en-US" sz="3400" spc="-1" strike="noStrike">
                <a:solidFill>
                  <a:srgbClr val="cc9900"/>
                </a:solidFill>
                <a:latin typeface="Gill Sans MT"/>
              </a:rPr>
              <a:t>physical</a:t>
            </a:r>
            <a:r>
              <a:rPr b="0" lang="en-US" sz="3400" spc="-1" strike="noStrike">
                <a:solidFill>
                  <a:srgbClr val="cc9900"/>
                </a:solidFill>
                <a:latin typeface="Gill Sans MT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and the </a:t>
            </a:r>
            <a:r>
              <a:rPr b="1" lang="en-US" sz="3400" spc="-1" strike="noStrike">
                <a:solidFill>
                  <a:srgbClr val="cc9900"/>
                </a:solidFill>
                <a:latin typeface="Gill Sans MT"/>
              </a:rPr>
              <a:t>sacre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255320" indent="-286200">
              <a:lnSpc>
                <a:spcPct val="100000"/>
              </a:lnSpc>
              <a:spcBef>
                <a:spcPts val="700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mountains were </a:t>
            </a:r>
            <a:r>
              <a:rPr b="0" lang="en-US" sz="2800" spc="-1" strike="noStrike">
                <a:solidFill>
                  <a:srgbClr val="ff6600"/>
                </a:solidFill>
                <a:latin typeface="Gill Sans MT"/>
              </a:rPr>
              <a:t>sacred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, so Aztec temples were built in the shape of mount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6840" y="-766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cccc66"/>
                </a:solidFill>
                <a:uFillTx/>
                <a:latin typeface="Gill Sans MT"/>
              </a:rPr>
              <a:t>PHYSICAL GEOGRAPHY</a:t>
            </a: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ccc66"/>
                </a:solidFill>
                <a:uFillTx/>
                <a:latin typeface="Gill Sans MT"/>
              </a:rPr>
              <a:t>How did they find Tenochtitlan?</a:t>
            </a:r>
            <a:endParaRPr b="1" lang="en-US" sz="38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The god Huitzilopochtli lead the Aztecs to </a:t>
            </a:r>
            <a:r>
              <a:rPr b="1" lang="en-US" sz="3000" spc="-1" strike="noStrike">
                <a:solidFill>
                  <a:srgbClr val="ff6600"/>
                </a:solidFill>
                <a:latin typeface="Gill Sans MT"/>
              </a:rPr>
              <a:t>Tenochtitlan</a:t>
            </a:r>
            <a:r>
              <a:rPr b="1" lang="en-US" sz="3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(the Aztec capital city), so they had to live there, even though it was on an island surrounded by wa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Earth was believed to be a </a:t>
            </a:r>
            <a:r>
              <a:rPr b="0" lang="en-US" sz="2800" spc="-1" strike="noStrike">
                <a:solidFill>
                  <a:srgbClr val="cc9900"/>
                </a:solidFill>
                <a:latin typeface="Gill Sans MT"/>
              </a:rPr>
              <a:t>round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, </a:t>
            </a:r>
            <a:r>
              <a:rPr b="0" lang="en-US" sz="2800" spc="-1" strike="noStrike">
                <a:solidFill>
                  <a:srgbClr val="cc9900"/>
                </a:solidFill>
                <a:latin typeface="Gill Sans MT"/>
              </a:rPr>
              <a:t>flat dis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divided into 4 sections, with Tenochtitlan in the </a:t>
            </a:r>
            <a:r>
              <a:rPr b="0" lang="en-US" sz="2800" spc="-1" strike="noStrike">
                <a:solidFill>
                  <a:srgbClr val="ff6600"/>
                </a:solidFill>
                <a:latin typeface="Gill Sans MT"/>
              </a:rPr>
              <a:t>middl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On their journey to Tenochtitlan, the Aztecs came into </a:t>
            </a:r>
            <a:r>
              <a:rPr b="0" lang="en-US" sz="3000" spc="-1" strike="noStrike">
                <a:solidFill>
                  <a:srgbClr val="ff6600"/>
                </a:solidFill>
                <a:latin typeface="Gill Sans MT"/>
              </a:rPr>
              <a:t>conflict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with different societies – this caused them to become a </a:t>
            </a: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disciplined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, </a:t>
            </a: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independent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, and </a:t>
            </a: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resourceful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socie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683560" cy="66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816120"/>
            <a:ext cx="87631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cccc66"/>
                </a:solidFill>
                <a:uFillTx/>
                <a:latin typeface="Gill Sans MT"/>
              </a:rPr>
              <a:t>The Aztec Empire</a:t>
            </a:r>
            <a:endParaRPr b="1" lang="en-US" sz="47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The Aztecs </a:t>
            </a: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expanded </a:t>
            </a: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their empire through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50520" indent="-32688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trade alli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0520" indent="-32688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defensive alli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0520" indent="-32688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war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merchants spied for Aztec army; compulsory military service for all men; warrior society inspired commitment to protect the Aztec peopl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0520" indent="-32688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tribute</a:t>
            </a:r>
            <a:r>
              <a:rPr b="0" lang="en-US" sz="3000" spc="-1" strike="noStrike">
                <a:solidFill>
                  <a:srgbClr val="cc99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(valuable gifts/taxes given by conquered peop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cccc66"/>
                </a:solidFill>
                <a:uFillTx/>
                <a:latin typeface="Gill Sans MT"/>
              </a:rPr>
              <a:t>Aztec Citizenship</a:t>
            </a:r>
            <a:endParaRPr b="1" lang="en-US" sz="47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An </a:t>
            </a: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ideal </a:t>
            </a: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Aztec citizen could be described a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Courageous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deal with hardships without complaini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Self-sacrificing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group was more important than individu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Modest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do not boast or do anything that makes you stand ou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Clean Lifestyle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stay healthy; don’t over-indulge in food/drink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Obedient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obey superiors to maintain social ord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4:32:47Z</dcterms:created>
  <dc:creator>Administrator</dc:creator>
  <dc:description/>
  <dc:language>en-US</dc:language>
  <cp:lastModifiedBy>Administrator</cp:lastModifiedBy>
  <dcterms:modified xsi:type="dcterms:W3CDTF">2009-02-26T14:56:35Z</dcterms:modified>
  <cp:revision>9</cp:revision>
  <dc:subject/>
  <dc:title>Aztec Society: </dc:title>
</cp:coreProperties>
</file>